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5D3-A9AE-4842-8B79-36C3B7D0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AC2-10EB-4132-9F1C-5C8F4A8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1F16C-783C-4426-BD1B-A2D4E7D0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96B78-D701-4B88-99F2-2628134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14691-31BF-4D36-92D0-5506937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B61B3-B2D8-4D5C-A4FE-EEED3F4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8823B-13C0-4A47-BA50-8303A44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BFF03-1D5B-4955-A24D-2DDFF081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D5E18-1FCE-4202-9119-174B98A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D57B7-F3E5-41C2-8C29-2149379C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CB1A4-7192-48C4-86B5-08AF7256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7FB64-AC01-43A9-A94E-F54E27F2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916-77F0-4637-8C88-E2C2BDD2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BFB6D-13F0-4F22-B7C2-8CE17DC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EED08-595F-481A-8304-B77461CA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17866-29F4-4455-877D-BCE8383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100A1-4E24-4602-9736-8FE0D57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825E3-6FC0-4AFC-9B1D-D338DFD4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73EBB-3DE5-4BFB-B498-118CF85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D8DEB-7774-4414-BEA4-B977830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30B0B-96DF-46C9-876D-11D3938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A7EFF-3F87-4FFC-B07E-F47489B5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9ABCE-368E-46C6-949C-86B04694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7B4-6E7C-44C4-8DCA-89D0210A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17FA9-969E-423D-8CC1-455407A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63CFA-6726-48D7-96C4-976B700B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1DCAD-24B6-4C72-A377-FC8ADE7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F2DC3-5C64-4E36-9D66-7203A3C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5324E-8260-49DA-AA5B-3307F617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4D4E-4D11-4D24-9502-4168957E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F1C0-4630-45F3-8B1B-C059435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2DE37-F0EA-4471-BBCD-E28B65F8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105BE-7F4B-46B4-98CA-A8652E7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FE81-B6FC-45D4-862F-9D5DFD0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2F64-D313-445E-BBF4-A9FF51FA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1CB9-3479-48D0-84EC-A65BA882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3EF88-1AE5-4962-8FE6-021CADE6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571D-CF12-4095-A17D-E2876492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8DB0B-7526-427C-93F3-97B09795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AC50E-C5BF-4CC7-85BE-D932D77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E6357-5108-4319-91A2-555975F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B5018-2483-4603-B49A-01C44FF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F3936-75E5-4732-9A1C-3694D2DA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840D6-DEE6-472C-A3A4-2BAE5651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54EA8-51F6-4855-A762-801A8B1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3CDA-C820-4F20-9545-6C21BCFF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5158C-8866-4713-8B2E-5996900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DD6F4-3377-453B-9983-61F769E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2B062-4935-4F8E-8C78-2A9EE7C9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0729A-EDF1-4577-9C4E-DDD0F2D6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2BF66-CA72-441A-A8E9-DE5AA18D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03F7-D342-4D7F-A6E9-7BFF2FB9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711-96CB-4DEB-B816-823AD9A7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663D-ECC9-42AB-A909-9CF02B08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936F-4DD4-4D61-B66E-509DA2D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346A-7B23-4609-9A77-1EA7604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C19-713A-49D8-9A1F-9336253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5B08-F909-4E4D-B608-7F87858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CF0-32EB-4EA2-9A53-3B1C6D7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886-3F35-4284-A569-0A839CA3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404-E575-4FFF-BFF1-55AE579D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8A9F-088A-486A-8343-86DB044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129C-E90E-4FA8-A5C8-F2266D0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7E1D-0256-4C6F-908E-B35E4113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7347-2865-4BBD-AD47-34CFE2E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9C22-D2D6-46EF-9F90-ADE537B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0CF3-1AE6-4686-BCAB-AE851A07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26F-CEF2-4E86-9175-E8E2201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FD2E-B5F9-4EE4-9DF8-2945A643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73C9-8AF0-4302-93BB-6635E246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2D44-20A3-45B7-915B-9720B8C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709E-F6C6-4EA0-B137-D4FF909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C96B-D94E-41E3-98FD-CB3134A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5608-9F46-4D07-9D0F-12075A21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92E7-208E-4934-B147-D01015C8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E2C4-5E73-4D76-B787-54B85908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D139-76FF-44E0-B652-D528EB7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4493-5975-432D-9DEE-0CB6FB2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300-78E9-4347-A73E-04A8649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2162-FC52-4259-B7F6-1A0538E8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1BE6-8E18-4226-A560-61DAE206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2485-B7FB-4DDA-BDCF-6E534F1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0C5A-8600-4B1C-9EB5-9D927A1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326B-2F4F-4382-8871-02C3C71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8DC2-478C-4835-92AA-47A8DAE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9835-DAC8-4A8A-8B98-9298E91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BD9B-12D7-4A17-95C0-01F5213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D1B5-6B2B-4C24-8BC9-1924AF9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A09F-5125-451B-B29C-F3E22F3C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E99-954B-416C-BF9D-9069B64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39B1-D3EA-4B37-BBB0-5938D69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3902-2E8F-44FF-A560-F9E0507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D4E4-6792-412A-B356-A37EA9DC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1D7B-47A1-4D6D-9485-1D10599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769F-7B10-47A3-8714-0B34F7F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BBC0-BC0E-43FE-A199-F381FDE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4B0C-42FF-41C5-8B84-D7032EA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364B-B59A-4694-B2EC-60F186C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C03F-C098-4A4E-B38D-DF071179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76B7-FFAA-4221-A7E9-D9A46993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D54-F959-4916-9C82-70650D81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46E4-9497-4642-B1ED-0375A8EE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18FD-F277-4000-A519-43CA1730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84459-B8B6-49E1-84C8-EEB546F2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8CD9-8561-417E-AB70-2C9C828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5D6E-8B23-4489-B443-ADCC0D4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2884-6DE8-4C13-911B-041AEADE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08B4-F6C2-401F-A2BB-D523505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2BEC-929B-4E1D-8F13-3470FCA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503A-5FE6-4073-97D9-05C3DDA7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E660-B036-49D5-BB25-735C859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24B-FDA5-4D4E-A5C2-1679764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EABB-4D73-4CC2-9C04-D848E686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8067-7F52-474B-9988-7A500D3F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A9A9-BD60-4F08-AD3B-11B4FC9E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AA9D4-9A34-4830-899D-46243553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178EB-A60E-484D-8A66-C003E75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C4CC-177F-453A-B8D3-3E054CF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6C89-080B-4458-A52D-8C13D03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0670-A0A5-4F98-B8E6-ED6194E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5550-DFCC-453D-BFBE-BDDC905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EF87-6A57-4816-92F4-AD80F64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306-6484-4496-80DC-ADDEE4D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7B54-D9BC-4234-B9D1-C4289DB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7012-00AC-4354-8680-9E148BF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B4D7-9686-4162-A03D-FB81ACC7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AEF2-E8B2-4A0E-B4F4-810AF490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B0F4-69A7-4BED-8A1D-B9B64E7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4ECD-3B2D-4D3A-AB73-7E06F6C7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1429-F98E-4219-98CB-CF8A748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42F8D-B79D-4B12-9F25-4FC4845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844D8-C36E-4579-820F-0E873AC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99722-1917-46E4-AECD-570BF2F3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AFE-6D6D-40D9-84CD-494F89D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ADE3-36E1-4826-9BD6-0DFCE23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1E06-37EB-44E0-BE58-F457B07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648FA-BC26-4061-9C78-8FCF0B7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061D4-A942-4EBD-9206-867F2DA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D7DF-0655-4FB5-B847-8445067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69F8-9E3B-402A-AF2E-B55E0811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6531-A523-45FD-A292-0A03C6EB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6A417-C97C-4AC2-80FE-B8834AC1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C2445-72EA-41E0-85EE-7AC33FB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736FA-B87B-42A6-986D-FDB2E38C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9A42-30F3-4D91-919D-9ECA49980D1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0B2-3D72-4566-A99D-2B7BFA5E5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E14-D536-43A8-9DFC-B6F35DE3C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785-2C8E-4E45-8C97-FB7679F9F1A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79D3-877D-4BF3-9FEB-D7738DA258D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55E-2396-46F4-97F3-FE1D912CC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640-7E18-4859-8961-C3F32E473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C49-D6C4-460C-8DA4-ED655BAF16C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4A5A-CE18-4648-BA73-63F379EEB16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DF6-B2FA-4607-9707-BF2D7FB35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F979-5E15-4073-8FFC-E7786D01B9D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376-E29D-480B-9DA0-D024AD26C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A3C3-9D31-47EA-888A-0B940202350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31B-1212-4CD7-AD49-868861A6C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2A71-D169-4D5D-91D8-1C5B2BECD24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6FD-2C70-43D2-9683-42897C585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5A0-9B04-4BFE-818C-69C497EFDEC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0A11-F389-48A2-8E8E-BADAE9E74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BAF-5D26-4B2C-9C1B-FBBCBDF02C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616-8A83-493B-9A45-46AE030D9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3E1-814D-4273-8F30-C987761F73C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3D5-62D6-4388-B9EA-AC4469160F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E533-CE57-453D-8D90-A0C28B449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682-AD93-47FF-BC3A-9FAE9CC22F1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3"/>
          <p:cNvSpPr/>
          <p:nvPr/>
        </p:nvSpPr>
        <p:spPr>
          <a:xfrm>
            <a:off x="273240" y="533520"/>
            <a:ext cx="86115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8fb08c"/>
                </a:solidFill>
                <a:uFillTx/>
                <a:latin typeface="Times New Roman"/>
              </a:rPr>
              <a:t>Preparing a Post Closing Trial Bala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drawn to show that the balance has been reduced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-Closing Trial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8fb08c"/>
                </a:solidFill>
                <a:latin typeface="Times New Roman"/>
              </a:rPr>
              <a:t>Trial Bal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prepared after the closing entries are po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fb08c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ral Ledger accou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th balan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1" lang="en-US" sz="2400" spc="-1" strike="noStrike" u="sng">
                <a:solidFill>
                  <a:srgbClr val="8fb08c"/>
                </a:solidFill>
                <a:uFillTx/>
                <a:latin typeface="Times New Roman"/>
              </a:rPr>
              <a:t>debits and cred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qual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240" y="1555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ST-CLOSING TRIAL BALA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D:\C21 PowerPoint\Multi_Journal\art for blue\Ch09\Ch09-03d.jpg"/>
          <p:cNvPicPr/>
          <p:nvPr/>
        </p:nvPicPr>
        <p:blipFill>
          <a:blip r:embed="rId1"/>
          <a:srcRect l="16803" t="0" r="0" b="56149"/>
          <a:stretch/>
        </p:blipFill>
        <p:spPr>
          <a:xfrm>
            <a:off x="2743200" y="914400"/>
            <a:ext cx="5905440" cy="3611520"/>
          </a:xfrm>
          <a:prstGeom prst="rect">
            <a:avLst/>
          </a:prstGeom>
          <a:ln w="0">
            <a:noFill/>
          </a:ln>
        </p:spPr>
      </p:pic>
      <p:sp>
        <p:nvSpPr>
          <p:cNvPr id="609" name="Oval 4"/>
          <p:cNvSpPr/>
          <p:nvPr/>
        </p:nvSpPr>
        <p:spPr>
          <a:xfrm>
            <a:off x="6858000" y="1143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6"/>
          <p:cNvSpPr/>
          <p:nvPr/>
        </p:nvSpPr>
        <p:spPr>
          <a:xfrm>
            <a:off x="6400800" y="4191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7"/>
          <p:cNvSpPr/>
          <p:nvPr/>
        </p:nvSpPr>
        <p:spPr>
          <a:xfrm>
            <a:off x="2971800" y="17524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1522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152280" y="135576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itles of all general ledger accounts with balances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152280" y="48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the two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2280" y="32418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account’s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152280" y="597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163440" y="5597640"/>
            <a:ext cx="48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152280" y="52401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7"/>
          <p:cNvSpPr/>
          <p:nvPr/>
        </p:nvSpPr>
        <p:spPr>
          <a:xfrm>
            <a:off x="152280" y="42260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8"/>
          <p:cNvSpPr/>
          <p:nvPr/>
        </p:nvSpPr>
        <p:spPr>
          <a:xfrm>
            <a:off x="342900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0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4"/>
          <p:cNvGrpSpPr/>
          <p:nvPr/>
        </p:nvGrpSpPr>
        <p:grpSpPr>
          <a:xfrm>
            <a:off x="7314840" y="4343040"/>
            <a:ext cx="609840" cy="762480"/>
            <a:chOff x="7314840" y="4343040"/>
            <a:chExt cx="609840" cy="762480"/>
          </a:xfrm>
        </p:grpSpPr>
        <p:grpSp>
          <p:nvGrpSpPr>
            <p:cNvPr id="623" name="Group 27"/>
            <p:cNvGrpSpPr/>
            <p:nvPr/>
          </p:nvGrpSpPr>
          <p:grpSpPr>
            <a:xfrm>
              <a:off x="7314840" y="4343040"/>
              <a:ext cx="609840" cy="609480"/>
              <a:chOff x="7314840" y="4343040"/>
              <a:chExt cx="609840" cy="609480"/>
            </a:xfrm>
          </p:grpSpPr>
          <p:sp>
            <p:nvSpPr>
              <p:cNvPr id="624" name="Line 24"/>
              <p:cNvSpPr/>
              <p:nvPr/>
            </p:nvSpPr>
            <p:spPr>
              <a:xfrm flipH="1" flipV="1">
                <a:off x="7314840" y="4343400"/>
                <a:ext cx="2286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5"/>
              <p:cNvSpPr/>
              <p:nvPr/>
            </p:nvSpPr>
            <p:spPr>
              <a:xfrm flipV="1">
                <a:off x="7696080" y="4343040"/>
                <a:ext cx="228600" cy="6094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Oval 19"/>
            <p:cNvSpPr/>
            <p:nvPr/>
          </p:nvSpPr>
          <p:spPr>
            <a:xfrm>
              <a:off x="7426440" y="4724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37"/>
          <p:cNvGrpSpPr/>
          <p:nvPr/>
        </p:nvGrpSpPr>
        <p:grpSpPr>
          <a:xfrm>
            <a:off x="7620120" y="2133720"/>
            <a:ext cx="1218960" cy="1904760"/>
            <a:chOff x="7620120" y="2133720"/>
            <a:chExt cx="1218960" cy="1904760"/>
          </a:xfrm>
        </p:grpSpPr>
        <p:sp>
          <p:nvSpPr>
            <p:cNvPr id="628" name="Freeform 23"/>
            <p:cNvSpPr/>
            <p:nvPr/>
          </p:nvSpPr>
          <p:spPr>
            <a:xfrm>
              <a:off x="7620120" y="2133720"/>
              <a:ext cx="1066680" cy="190476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5"/>
            <p:cNvSpPr/>
            <p:nvPr/>
          </p:nvSpPr>
          <p:spPr>
            <a:xfrm>
              <a:off x="8458200" y="27432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38"/>
          <p:cNvGrpSpPr/>
          <p:nvPr/>
        </p:nvGrpSpPr>
        <p:grpSpPr>
          <a:xfrm>
            <a:off x="6933960" y="4343040"/>
            <a:ext cx="1219320" cy="1295640"/>
            <a:chOff x="6933960" y="4343040"/>
            <a:chExt cx="1219320" cy="1295640"/>
          </a:xfrm>
        </p:grpSpPr>
        <p:grpSp>
          <p:nvGrpSpPr>
            <p:cNvPr id="631" name="Group 31"/>
            <p:cNvGrpSpPr/>
            <p:nvPr/>
          </p:nvGrpSpPr>
          <p:grpSpPr>
            <a:xfrm>
              <a:off x="6933960" y="4343040"/>
              <a:ext cx="1219320" cy="1066680"/>
              <a:chOff x="6933960" y="4343040"/>
              <a:chExt cx="1219320" cy="1066680"/>
            </a:xfrm>
          </p:grpSpPr>
          <p:sp>
            <p:nvSpPr>
              <p:cNvPr id="632" name="Line 29"/>
              <p:cNvSpPr/>
              <p:nvPr/>
            </p:nvSpPr>
            <p:spPr>
              <a:xfrm flipH="1" flipV="1">
                <a:off x="6933960" y="4343400"/>
                <a:ext cx="609480" cy="9907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30"/>
              <p:cNvSpPr/>
              <p:nvPr/>
            </p:nvSpPr>
            <p:spPr>
              <a:xfrm flipV="1">
                <a:off x="7696080" y="4343040"/>
                <a:ext cx="45720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Oval 21"/>
            <p:cNvSpPr/>
            <p:nvPr/>
          </p:nvSpPr>
          <p:spPr>
            <a:xfrm>
              <a:off x="7443720" y="52578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3:29:17Z</dcterms:created>
  <dc:creator>Mary Colleen McLaughlin</dc:creator>
  <dc:description/>
  <dc:language>en-US</dc:language>
  <cp:lastModifiedBy>David Combs</cp:lastModifiedBy>
  <cp:lastPrinted>1999-04-03T20:57:50Z</cp:lastPrinted>
  <dcterms:modified xsi:type="dcterms:W3CDTF">2012-11-30T17:19:01Z</dcterms:modified>
  <cp:revision>16</cp:revision>
  <dc:subject/>
  <dc:title>ADJUSTING ENTRY FOR SUPPLIES</dc:title>
</cp:coreProperties>
</file>